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8FF3-B91E-4E22-A26F-8F2B27D11E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FC6A-C4D4-423D-B8EA-9FAC6110B0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7EB-81AE-4F3D-BC22-FA0800AF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FAE-AF9F-40F7-8966-7409CCD8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D55-0EB7-429D-8684-95AEBEE0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B94-B318-4A9A-BEAF-7BC58571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46B-E7AD-4264-8B5E-7BA5C7C8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4E0-21A8-4BCA-AA87-B6F21A0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F34-A879-443C-9863-F1FDC0D0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D25-52B6-4C18-868E-DD6E0383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61A-3195-43FB-B65D-073FB0CB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736-8CE7-45CB-8770-9BE44D0E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474-4841-4EA3-B5F9-995AFBC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C7B-A766-4D08-9313-53C299F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1E38-2D21-4818-9415-C5DF0298E8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13012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аботка и реализация индивидуальных образовательных маршрутов (АООП) для детей с ОВЗ и инвалидностью в образовательной организ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71520" y="3886200"/>
            <a:ext cx="5429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alibri"/>
              </a:rPr>
              <a:t>Скуратовская М.Л., зав. кафедрой «Дефектология и инклюзивное образование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alibri"/>
              </a:rPr>
              <a:t>ФГБОУ ВО «Донской государственный технический университ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федерального учебно-методического объединения по общему образованию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добрен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основные общеобразовательные программы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отокол № 6/17 от 7.12.201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ные адаптированные образовательные программы направлены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развития ребенка, открывающих возможности для его позитивной социализации, его личностного развития, развития инициативы и творческих способностей на основе сотрудничества со взрослыми и сверстниками и соответствующим возрасту видам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оздание развивающей образовательной среды, которая представляет собой систему условий социализации и индивиду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АО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образовательной модели, обеспечивающей полноценное и разностороннее развитие личности кажд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 ДО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компенсирующей направл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комбинированной направ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4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422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общеразвивающей направленности,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, по желанию родителей и по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ю ПМПК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 один ребенок с ОВ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14360" y="1590840"/>
            <a:ext cx="83026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357200"/>
          <a:ext cx="8229600" cy="3405240"/>
        </p:xfrm>
        <a:graphic>
          <a:graphicData uri="http://schemas.openxmlformats.org/drawingml/2006/table">
            <a:tbl>
              <a:tblPr/>
              <a:tblGrid>
                <a:gridCol w="1542960"/>
                <a:gridCol w="6686640"/>
              </a:tblGrid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О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уппы компенсирующе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комбинированно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компенсирующе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357200"/>
          <a:ext cx="8229600" cy="3405240"/>
        </p:xfrm>
        <a:graphic>
          <a:graphicData uri="http://schemas.openxmlformats.org/drawingml/2006/table">
            <a:tbl>
              <a:tblPr/>
              <a:tblGrid>
                <a:gridCol w="1542960"/>
                <a:gridCol w="6686640"/>
              </a:tblGrid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О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О, реализующие А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ы, реализующие А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 инклюзивного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ООП                                     АО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8" descr="C:\Users\Ulmart\Desktop\Архангелск\scrn_big_1.jpg"/>
          <p:cNvPicPr/>
          <p:nvPr/>
        </p:nvPicPr>
        <p:blipFill>
          <a:blip r:embed="rId1"/>
          <a:stretch/>
        </p:blipFill>
        <p:spPr>
          <a:xfrm>
            <a:off x="468360" y="1844640"/>
            <a:ext cx="4700520" cy="458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C:\Users\Ulmart\Desktop\Архангелск\iGNAWFGEY.jpg"/>
          <p:cNvPicPr/>
          <p:nvPr/>
        </p:nvPicPr>
        <p:blipFill>
          <a:blip r:embed="rId2"/>
          <a:stretch/>
        </p:blipFill>
        <p:spPr>
          <a:xfrm>
            <a:off x="5148360" y="1844640"/>
            <a:ext cx="374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. 2.11.2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ГОС Д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рганизаци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клюзивного образования по основаниям, не связанным с ОВ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ражено в ст. 42 ФЗ-27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ыделение данного раздела не является обязательным; в случае же его выделения содержание данного раздела определяется ОО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лава 2, Статья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оссийской Федерации устанавливаются следующ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ровни обще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ошколь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началь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основ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реднее общее образ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иентиры при составлении А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пользование методов обучения и воспитания, адекватных возрасту ребенка с ОВЗ, его физическому и психическому состоян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оздание оптимальных условий совместного обучения детей с ОВЗ и их нормально развивающихся сверстников (без ОВЗ и ООП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пользование адекватных вспомогательных средств и педагогических прием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рганизацию совместных форм работы воспитателей, педагогов-психологов, учителей-логопедов, учителей-дефектологов и на другие ориенти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273 статья 79.3….специальными услови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пециальных образовательных программ и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учебников, учебных пособий и дидактических материал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технических средств обучения коллективного и индивидуального пользова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услуг ассистента (помощника), оказывающего обучающимся необходимую техническую помощ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групповых и индивидуальных коррекционных занят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упа в здания организаций, осуществляющих образовательную деятельнос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условия, без которых невозможно или затруднено освоение образовательных программ обучающимися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пециальных образовательных усло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1" name="Прямая со стрелкой 21"/>
          <p:cNvCxnSpPr/>
          <p:nvPr/>
        </p:nvCxnSpPr>
        <p:spPr>
          <a:xfrm>
            <a:off x="4571640" y="3141360"/>
            <a:ext cx="1080" cy="14364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32" name="Группа 30"/>
          <p:cNvGrpSpPr/>
          <p:nvPr/>
        </p:nvGrpSpPr>
        <p:grpSpPr>
          <a:xfrm>
            <a:off x="318960" y="1628640"/>
            <a:ext cx="8640720" cy="4996080"/>
            <a:chOff x="318960" y="1628640"/>
            <a:chExt cx="8640720" cy="4996080"/>
          </a:xfrm>
        </p:grpSpPr>
        <p:sp>
          <p:nvSpPr>
            <p:cNvPr id="133" name="Овал 3"/>
            <p:cNvSpPr/>
            <p:nvPr/>
          </p:nvSpPr>
          <p:spPr>
            <a:xfrm>
              <a:off x="2911320" y="3284280"/>
              <a:ext cx="3311640" cy="1657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Специальные образовательные усло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4"/>
            <p:cNvSpPr/>
            <p:nvPr/>
          </p:nvSpPr>
          <p:spPr>
            <a:xfrm>
              <a:off x="6080040" y="4292640"/>
              <a:ext cx="2879640" cy="180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entury Gothic"/>
                </a:rPr>
                <a:t>Организация психолого-педагогического сопрово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Овал 5"/>
            <p:cNvSpPr/>
            <p:nvPr/>
          </p:nvSpPr>
          <p:spPr>
            <a:xfrm>
              <a:off x="3198600" y="5229360"/>
              <a:ext cx="2881080" cy="1395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Социальное партнер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Овал 6"/>
            <p:cNvSpPr/>
            <p:nvPr/>
          </p:nvSpPr>
          <p:spPr>
            <a:xfrm>
              <a:off x="318960" y="4508640"/>
              <a:ext cx="2592360" cy="1657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Материально-техническ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7"/>
            <p:cNvSpPr/>
            <p:nvPr/>
          </p:nvSpPr>
          <p:spPr>
            <a:xfrm>
              <a:off x="3055680" y="1628640"/>
              <a:ext cx="2950920" cy="1440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Финансово-экономическ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8"/>
            <p:cNvSpPr/>
            <p:nvPr/>
          </p:nvSpPr>
          <p:spPr>
            <a:xfrm>
              <a:off x="318960" y="1989000"/>
              <a:ext cx="2663640" cy="151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entury Gothic"/>
                </a:rPr>
                <a:t>Нормативно-правовое сопровожд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9"/>
            <p:cNvSpPr/>
            <p:nvPr/>
          </p:nvSpPr>
          <p:spPr>
            <a:xfrm>
              <a:off x="6080040" y="1915920"/>
              <a:ext cx="2519280" cy="151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Кадровое обеспеч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Прямая со стрелкой 15"/>
            <p:cNvCxnSpPr/>
            <p:nvPr/>
          </p:nvCxnSpPr>
          <p:spPr>
            <a:xfrm>
              <a:off x="2406240" y="3429000"/>
              <a:ext cx="721440" cy="28800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1" name="Прямая со стрелкой 17"/>
            <p:cNvCxnSpPr/>
            <p:nvPr/>
          </p:nvCxnSpPr>
          <p:spPr>
            <a:xfrm flipV="1">
              <a:off x="2766960" y="4652280"/>
              <a:ext cx="505440" cy="216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2" name="Прямая со стрелкой 25"/>
            <p:cNvCxnSpPr/>
            <p:nvPr/>
          </p:nvCxnSpPr>
          <p:spPr>
            <a:xfrm flipV="1">
              <a:off x="4639680" y="4941360"/>
              <a:ext cx="1080" cy="216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3" name="Прямая со стрелкой 27"/>
            <p:cNvCxnSpPr/>
            <p:nvPr/>
          </p:nvCxnSpPr>
          <p:spPr>
            <a:xfrm flipH="1">
              <a:off x="6006600" y="3283920"/>
              <a:ext cx="505440" cy="432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4" name="Прямая со стрелкой 29"/>
            <p:cNvCxnSpPr/>
            <p:nvPr/>
          </p:nvCxnSpPr>
          <p:spPr>
            <a:xfrm flipH="1">
              <a:off x="6079680" y="4365360"/>
              <a:ext cx="792720" cy="108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мплектованность образовательного учреждения педагогическими и руководящими работниками, компетентными в понимании особых образовательных потребностей детей с ОВЗ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квалификации педагогических и иных работников образовательного учреждения в области образования детей с ОВЗ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 профессионального развития педагогических работников образовательного учреждения в сфере коррекционной (специальной) педагогики, специальной психологии и клинической детской псих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248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-техническое обеспечение</a:t>
            </a:r>
            <a:br>
              <a:rPr sz="32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980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ьно-технические условия реализации 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аптированной образовательной программы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обеспечивать соблюдени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х нор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 с учетом потребностей детей с ОВЗ, обучающихся в данном учреждении (требования к водоснабжению, канализации, освещению, воздушно-тепловому режиму и т. д.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для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репятственного доступ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граниченными возможностями здоровья к объектам инфраструктуры образовательного учреждения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бытовых услов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отребностей детей с ОВЗ, обучающихся в данном учреждении (наличие оборудованных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рдеробов, санузло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ст личной гигиены и т. д.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бытовых условий с учетом конкретных потребностей ребенка с ОВЗ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чающегося в данном учреждении (наличие адекватно оборудованного пространства школьного учреждения,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его мест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, и т. д.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и электробезопасности, с учетом потребностей детей с ОВЗ, обучающихся в данном учреждени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реализации АООП/А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560" y="134136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объеме определяемых органами государственной власти субъектов Российской Федерации нормативов обеспечения государственных гарантий реализации прав на получение общедоступного и бесплат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ми условиями получения образования (кадровыми, материально-технически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на оплату труда работников, реализующих АООП/АО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н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ства обучения и воспитания, коррекции (компенсации) нарушений развития, включающими расходные и дидактические материалы, оборудова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, электронные ресурсы, оплату услуг связи, в том числе расходами, связанными с подключением к информационно-телекоммуникационной сети "Интернет"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, связанными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ым профессиональным образованием руководящих и педагогических работ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их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ми расходами, связанными с реализацией и обеспечением реализации АООП, в том числе с круглосуточным пребыванием обучающихся с ОВЗ в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Целевой раз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Планируемые результаты освоения обучающими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(АООП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целевые ориентиры в соответствие с ФГОС ДО и учетом психо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Развивающее оценивание качества образовательной деятельности по Програм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варительной подготовке к разработке АООП (АОП) рекомендуем составить следующую рабочую табли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700280"/>
          <a:ext cx="8856720" cy="345744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0120"/>
                <a:gridCol w="1771560"/>
                <a:gridCol w="1771920"/>
              </a:tblGrid>
              <a:tr h="945360"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е результаты (целевые ориентир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оценки (индикаторы оценив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с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9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5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58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Пояснительная запис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836280"/>
            <a:ext cx="8785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разработки программы (нормативные докумен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«Об образовании в РФ» (от 29.12.2012 № 273-Ф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 (приказ МОиН РФ от 17.10.2013 № 1155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ми требованиями к устройству, содержанию и организации режима работы  дошкольных образовательных организаций (утв. Постановлением Главного государственного санитарного врача РФ от 15. 05. 2013 г. № 26)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щеобразовательная программа. Одобрена ФУМО по общему образованию (протокол от 20.05.2015 № 2/15)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рные адаптированные основные общеобразовательные программы дошкольного образования (протокол № 6/17 от 7.12.2017 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характеристика особенностей психофизиологического развития детей с ОВ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(из ФГОС с учетом категории дет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построения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76500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разовательная програм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о-методическая документация (примерный учебный план, примерный календарный учебный график, примерные рабочие программы учебных предметов, курсов, дисциплин (модулей), иных компонентов), определяющая рекомендуемые объем и содержание образования определенного уровня и (или) определенной направленности, планируемые результаты освоения образовательной программы, примерные условия образовательной деятельности, включая примерные расчеты нормативных затрат оказания государственных услуг по реализации образовательной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словий развит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бовидящих детей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 (или)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ей с функциональными нарушениями зр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х обеспечить возможности дл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озитивной социализации, личностного развития, развития инициативы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х способностей 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сотрудничества 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м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стникам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возрасту видам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ектирование моде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ой  и коррекционно-развивающей психолого-педагогической работы, максимально обеспечивающей создание условий для развития  детей ЗПР дошкольного возраста  в группах компенсирующей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комбинированн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и, их позитивной социализации, интеллектуального, социально-личностного, художественно-эстетического и физического  развития на основе сотрудничества со взрослыми и сверстниками в соответствующих возрасту видах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Целевые ориенти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исходя из возрастных и психофизических возможностей детей написать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годам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мер целевые ориентиры из примерной адаптированной программы для детей с ТН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ен к устойчивому эмоциональному контакту со взрослым и сверстниками…;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отдельные ролевые действия, носящие условный характер; участвует в разыгрывании сюжета: цепочки двух-трех действий (воображаемую ситуацию удерживает взрослый);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…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пособен самостояте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9080" y="1341360"/>
          <a:ext cx="8675640" cy="5178600"/>
        </p:xfrm>
        <a:graphic>
          <a:graphicData uri="http://schemas.openxmlformats.org/drawingml/2006/table">
            <a:tbl>
              <a:tblPr/>
              <a:tblGrid>
                <a:gridCol w="4230360"/>
                <a:gridCol w="444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21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основные цв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цвета окружающих предметов и предметных изобра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игрушки с цветными и силуэтными изображения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плоскостные геометрические фигуры (круг, квадрат, треугольник) и объемные геометрические тела (куб, шар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форму предметов ближайшего окружения с геометрическими эталон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основные цвета, а также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ричневый, черный и белы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цвет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и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называть цвета окружающих предметов и предметных изображений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…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объемные геометрические тела (шар, куб, цилиндр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предметы заданной формы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кружающей обстановке и в изображения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вивающее оценивание качества образовательной деятельности по Програм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оцениван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качества условий образова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не предусматривается оцен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качества образовательной деятельности организации на основе достижения детьми планируемых результатов освоения Програм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ются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8796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качества дошкольного образовани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и другие условия реализации основной образовательной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рганизации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 образовательных областя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енных Стандарт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едпочтения и удовлетвор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школьным образованием со стороны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и реб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индивидуального развития ребенка в контексте оценки работы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вивающее оценивание качества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9280" y="1417680"/>
            <a:ext cx="878544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оценка, самооценка реализации АООП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мониторинга динамики индивидуального развития детей, динамики их образовательных достижен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шняя оценка: оценка реализации АООП родителями, анализ форума сайта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оценка, самооценка реализации АОО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417320"/>
            <a:ext cx="89280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)анкетирование педагогов удовлетворенностью образовательным процессом в соответствии с ФГОС Д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одится руководителем ОУ и его заместител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самоанализ деятельности образовательного учреждения– проводится руководителем ОУ и его заместителя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система мониторинга динамики индивидуального  развития детей, динамики их образовательных дост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 пункту 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гут быть предусмотре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анкета для самоанали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анкеты для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 пункту в: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карты обследования детей специалис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обследование ребенка воспитателем и  музыкальным руководителем, специалистом по физической культуре и др. (может быть зафиксировано в одной карт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3640" y="83664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 основных характеристик образования (объем, содержание, планируемые результаты), организационно-педагогических условий и в случаях, предусмотренных настоящим Федеральным законом, форм аттестации, который представлен в виде 1)учебного плана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календарного учебного граф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рабочих програм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сциплин (модулей), 4)иных компонентов, а такж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ценочных и 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ониторинга динамики индивидуального  развит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201600" y="1365120"/>
            <a:ext cx="885024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шняя оценка реализации АООП может включать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оценку реализации АООП родителями (анкетирование)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анализ форума сайта образовательного учреждения (критерии для анализ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качества дошкольного образов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197000"/>
            <a:ext cx="896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вариат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, форм и методов Д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, насколько ОП способству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тношению к ожиданиям ребенка, семьи, педагогов, общества и государ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едагогами Организации собственной работы и независимая профессиональная и общественная оц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й образовательной деятельности в Д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спользует единые </a:t>
            </a:r>
            <a:r>
              <a:rPr b="1" i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нструменты, оценивающие условия реализации программы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в Организации,  как для самоанализа, так и для внешнего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Содержательный компонент АООП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Содержание образовательной работы по пяти образовательным областя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; познавательное развитие; речевое развитие; художественно-эстетическое развитие; физическое развитие, которое зависит от возраста детей: младенческий, ранний, дошкольный). Может быть представлено в виде таблицы, может носить описательный харак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5280" y="4869000"/>
          <a:ext cx="8497800" cy="1444320"/>
        </p:xfrm>
        <a:graphic>
          <a:graphicData uri="http://schemas.openxmlformats.org/drawingml/2006/table">
            <a:tbl>
              <a:tblPr/>
              <a:tblGrid>
                <a:gridCol w="2881440"/>
                <a:gridCol w="5616360"/>
              </a:tblGrid>
              <a:tr h="104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2.Содержание Вариативной част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161604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ое направление ДО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2.Взаимодействие взрослых с дет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ой является личностно-пораждающее взаимодейст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……………………….(след. слай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дачами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социально-коммуникативного развития являются создание условий для: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норм и ценностей, принятых в обществе, включая моральные и нравственные цен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общения и взаимодействия ребёнка со взрослыми и сверстниками доступными возрасту и психофизиологическим особенностям средства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я самостоятельности, целенаправленности и саморегуляции собственных действий в игровой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ых установок к различным видам труда и творче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снов безопасного поведения в быту, социуме,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 сфере усвоения норм и ценностей, принятых в обществе, включая моральные и нравственные цен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создают условия для формирования у ребенка уверенности в себе и своих возможностях. Способствуют развитию у ребенка чувства собственного достоинства, осознанию своих прав и свобод (иметь собственное мнение, выбирать друзей, виды деятельности, иметь личные вещи, по собственному усмотрению использовать личное врем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способствуют поддержанию самостоятельности, формированию адекватной самооценки собственной деятельности, поведения, развитию эмоциональной отзывчивости, сопереживания, формированию готовности к совместной деятельности со сверстниками, уважительного отношения и чувства принадлежности к своей семье, к сообществу детей и взросл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ормы взаимодейст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 (законными представителями)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ООП должны быть определены общие направления взаимодействия (частные мероприятия включаются в годовой план ОО и рабочие программы воспитателей и специалис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149720"/>
          <a:ext cx="8856720" cy="2344680"/>
        </p:xfrm>
        <a:graphic>
          <a:graphicData uri="http://schemas.openxmlformats.org/drawingml/2006/table">
            <a:tbl>
              <a:tblPr/>
              <a:tblGrid>
                <a:gridCol w="1944720"/>
                <a:gridCol w="2484360"/>
                <a:gridCol w="2213280"/>
                <a:gridCol w="2214360"/>
              </a:tblGrid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существл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-аналит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Изучение семьи, выяснение образовательных потребностей родителей д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огласования воспитательных воздействий на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кетирование родителей,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ормы взаимодейст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 (законными представителями)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628640"/>
          <a:ext cx="8507520" cy="4197600"/>
        </p:xfrm>
        <a:graphic>
          <a:graphicData uri="http://schemas.openxmlformats.org/drawingml/2006/table">
            <a:tbl>
              <a:tblPr/>
              <a:tblGrid>
                <a:gridCol w="1866960"/>
                <a:gridCol w="2387520"/>
                <a:gridCol w="2125800"/>
                <a:gridCol w="212724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существл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педагогической культуры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ие собр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и специали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ия откры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и открытых две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тер-клас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ин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родительскими комите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1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Федеральные государственные образовательные стандарты …обеспечивают: 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ариативность содерж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х программ соответствующего уровня образования, возможность формирования образовательных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грамм различного уровня сложности и направленност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учетом образовательных потребностей и способностей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Содержание коррекционной рабо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ля групп компенсирующей, комбинированной направленности и включения (инкл. обр.) одного ребенка с ОВ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рм, способов, сред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4360" y="1628640"/>
          <a:ext cx="8064360" cy="1454400"/>
        </p:xfrm>
        <a:graphic>
          <a:graphicData uri="http://schemas.openxmlformats.org/drawingml/2006/table">
            <a:tbl>
              <a:tblPr/>
              <a:tblGrid>
                <a:gridCol w="2687400"/>
                <a:gridCol w="537696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коррекционно-развивающей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работы каждого специалиста, педаго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147160" cy="3851280"/>
        </p:xfrm>
        <a:graphic>
          <a:graphicData uri="http://schemas.openxmlformats.org/drawingml/2006/table">
            <a:tbl>
              <a:tblPr/>
              <a:tblGrid>
                <a:gridCol w="2089080"/>
                <a:gridCol w="1596960"/>
                <a:gridCol w="1508400"/>
                <a:gridCol w="1512720"/>
                <a:gridCol w="14400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-логопе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-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-дефект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ая работа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У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рганизационный раз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836280"/>
            <a:ext cx="8928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Условия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Режим пребывания воспитанников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Структура реализации образов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Максимально допустимая образовательная нагрузка воспитанников груп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Методическое обеспечение образовательной деятельности (список литературы, ЭОР,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8796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1.Психолого-педагогические условия, обеспечивающие развитие ребен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порождающее взаимодействие взрослых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сть педагогической оценки на относительные показатели детской успеш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гры как важнейшего фактора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вивающей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ость репродуктивной (воспроизводящей готовый образец) и продуктивной (производящей субъективно новый продукт)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развитие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1"/>
          <p:cNvSpPr/>
          <p:nvPr/>
        </p:nvSpPr>
        <p:spPr>
          <a:xfrm>
            <a:off x="220680" y="640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2.Организация развивающей предметно-пространственной ср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о-насыще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ируе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C:\Users\Ulmart\Desktop\Архангелск\qdaq_sasybhz_avcpkqd_2.jpg"/>
          <p:cNvPicPr/>
          <p:nvPr/>
        </p:nvPicPr>
        <p:blipFill>
          <a:blip r:embed="rId1"/>
          <a:stretch/>
        </p:blipFill>
        <p:spPr>
          <a:xfrm>
            <a:off x="250920" y="189000"/>
            <a:ext cx="4503600" cy="4503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Users\Ulmart\Desktop\Архангелск\3974.jpg"/>
          <p:cNvPicPr/>
          <p:nvPr/>
        </p:nvPicPr>
        <p:blipFill>
          <a:blip r:embed="rId2"/>
          <a:stretch/>
        </p:blipFill>
        <p:spPr>
          <a:xfrm>
            <a:off x="3780000" y="3284640"/>
            <a:ext cx="4716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Ulmart\Desktop\Архангелск\qo.jpg"/>
          <p:cNvPicPr/>
          <p:nvPr/>
        </p:nvPicPr>
        <p:blipFill>
          <a:blip r:embed="rId1"/>
          <a:stretch/>
        </p:blipFill>
        <p:spPr>
          <a:xfrm>
            <a:off x="826920" y="549360"/>
            <a:ext cx="6121440" cy="33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Ulmart\Desktop\Архангелск\T2d7GeXhhbXXXXXXXX_!!695329745.jpg"/>
          <p:cNvPicPr/>
          <p:nvPr/>
        </p:nvPicPr>
        <p:blipFill>
          <a:blip r:embed="rId2"/>
          <a:stretch/>
        </p:blipFill>
        <p:spPr>
          <a:xfrm>
            <a:off x="3635280" y="3284640"/>
            <a:ext cx="5192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3.Кадровые усло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(Mинздравсоцразвития России) от 26 августа 2010 г. N 761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оск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Единого квалификационного справочника должностей руководителей, специалистов и служащих, раздел "Квалификационные характеристики должностей работников образования"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4.Материально-технически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165240" y="1603440"/>
            <a:ext cx="8991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лиц с ограниченными возможностями здоровья с учетом особенностей их психофизического развит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х возможностей и при необходимости обеспечивающая коррекцию нарушений разви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циальную адаптацию указанных л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5. Финансов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программы определяется существующей нормативной документацией (федеральной, региональн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4920" y="54900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Режим пребывания воспитанников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Структура реализации образов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Максимально допустимая образовательная нагрузка воспитанников груп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Методическое обеспечение образовательной деятельности (список литературы, ЭОР,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с ограниченными возможностями здоровь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ое лицо, имеющее недостатки в физическом и (или) психическом развитии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твержденные психолого-медико-педагогической комисс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пятствующие получению образования без создания специальных усло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и к ФГОС дошкольного образования. Минобрнауки России от 28 февраля 2014 год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08-24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. Программа разрабатывается и утверждается Организацией самостоятельно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настоящим Стандартом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чёт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х програм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ный в разде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нкта 2.5. ФГОС ДО, а также в ФЗ-273 термин «с учетом» означает право и предоставленную Организации возможность ознакомиться с существующими примерными программами, оценить их пригодность для своей образовательной деятельности и принять решение об использовании или неиспользовании данных примерных программ при разработке программы (программ) Д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федерального учебно-методического объединения по общему образованию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добре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разовательная программа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токол № 2/15 от 20.05.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3:26:33Z</dcterms:created>
  <dc:creator>User</dc:creator>
  <dc:description/>
  <dc:language>en-US</dc:language>
  <cp:lastModifiedBy>Пользователь</cp:lastModifiedBy>
  <cp:lastPrinted>2012-12-05T04:15:31Z</cp:lastPrinted>
  <dcterms:modified xsi:type="dcterms:W3CDTF">2023-12-15T13:52:35Z</dcterms:modified>
  <cp:revision>276</cp:revision>
  <dc:subject/>
  <dc:title>Опыт инклюзивного образования в Санкт-Петербурге</dc:title>
</cp:coreProperties>
</file>